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gif" ContentType="image/gif"/>
  <Override PartName="/ppt/media/image25.gif" ContentType="image/gif"/>
  <Override PartName="/ppt/media/image6.jpeg" ContentType="image/jpeg"/>
  <Override PartName="/ppt/media/image22.gif" ContentType="image/gif"/>
  <Override PartName="/ppt/media/image18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28.gif" ContentType="image/gif"/>
  <Override PartName="/ppt/media/image8.png" ContentType="image/png"/>
  <Override PartName="/ppt/media/image39.jpeg" ContentType="image/jpeg"/>
  <Override PartName="/ppt/media/image32.png" ContentType="image/png"/>
  <Override PartName="/ppt/media/image7.png" ContentType="image/png"/>
  <Override PartName="/ppt/media/image34.jpeg" ContentType="image/jpeg"/>
  <Override PartName="/ppt/media/image9.jpeg" ContentType="image/jpeg"/>
  <Override PartName="/ppt/media/image10.png" ContentType="image/png"/>
  <Override PartName="/ppt/media/image30.png" ContentType="image/png"/>
  <Override PartName="/ppt/media/image37.jpeg" ContentType="image/jpeg"/>
  <Override PartName="/ppt/media/image35.png" ContentType="image/png"/>
  <Override PartName="/ppt/media/image15.gif" ContentType="image/gif"/>
  <Override PartName="/ppt/media/image5.jpeg" ContentType="image/jpeg"/>
  <Override PartName="/ppt/media/image12.gif" ContentType="image/gif"/>
  <Override PartName="/ppt/media/image38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40.gif" ContentType="image/gif"/>
  <Override PartName="/ppt/media/image3.png" ContentType="image/png"/>
  <Override PartName="/ppt/media/image26.png" ContentType="image/png"/>
  <Override PartName="/ppt/media/image36.jpeg" ContentType="image/jpeg"/>
  <Override PartName="/ppt/media/image2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B536-2B78-4A44-9A5E-701D8EC4B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http://sun.menloschool.org/~cweaver/cells/c/cell_membrane/" TargetMode="External"/><Relationship Id="rId2" Type="http://schemas.openxmlformats.org/officeDocument/2006/relationships/slide" Target="../slides/slide12.xml"/><Relationship Id="rId3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hyperlink" Target="http://vilenski.org/science/safari/cellstructure/mito.html" TargetMode="External"/><Relationship Id="rId2" Type="http://schemas.openxmlformats.org/officeDocument/2006/relationships/slide" Target="../slides/slide13.xml"/><Relationship Id="rId3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hyperlink" Target="http://www.biology.arizona.edu/chh/problem_sets/kidneysmetals/07t.html" TargetMode="External"/><Relationship Id="rId2" Type="http://schemas.openxmlformats.org/officeDocument/2006/relationships/slide" Target="../slides/slide23.xml"/><Relationship Id="rId3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hyperlink" Target="http://www.cbs.dtu.dk/staff/dave/roanoke/oakcell.html" TargetMode="External"/><Relationship Id="rId2" Type="http://schemas.openxmlformats.org/officeDocument/2006/relationships/hyperlink" Target="http://www.cbs.dtu.dk/staff/dave/roanoke/oakcell.html" TargetMode="External"/><Relationship Id="rId3" Type="http://schemas.openxmlformats.org/officeDocument/2006/relationships/hyperlink" Target="http://www.cbs.dtu.dk/staff/dave/roanoke/oakcell.html" TargetMode="External"/><Relationship Id="rId4" Type="http://schemas.openxmlformats.org/officeDocument/2006/relationships/slide" Target="../slides/slide40.xml"/><Relationship Id="rId5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hyperlink" Target="http://fig.cox.miami.edu/Faculty/Dana/105F00_11.html" TargetMode="External"/><Relationship Id="rId2" Type="http://schemas.openxmlformats.org/officeDocument/2006/relationships/hyperlink" Target="http://fig.cox.miami.edu/Faculty/Dana/105F00_11.html" TargetMode="External"/><Relationship Id="rId3" Type="http://schemas.openxmlformats.org/officeDocument/2006/relationships/slide" Target="../slides/slide44.xml"/><Relationship Id="rId4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hyperlink" Target="http://edservices.aea7.k12.ia.us/edtech/teacherpages/cwinstead3/centrioles.html" TargetMode="External"/><Relationship Id="rId2" Type="http://schemas.openxmlformats.org/officeDocument/2006/relationships/slide" Target="../slides/slide45.xml"/><Relationship Id="rId3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stanford.edu/group/hopes/basics/dna/b1.html" TargetMode="External"/><Relationship Id="rId2" Type="http://schemas.openxmlformats.org/officeDocument/2006/relationships/slide" Target="../slides/slide6.xml"/><Relationship Id="rId3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iology.arizona.edu/chh/problem_sets/kidneysmetals/graphics/bilayer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un.menloschool.org/~cweaver/cells/c/cell_membrane/head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thomsonlearning.com.au/biology/guide/unit_3/unit111.html?/biology/guide/unit_3/s1a.html~mai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un.menloschool.org/~cweaver/ cells/c/cell_membrane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ilenski.org/science/safari/ cellstructure/mito.ht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icro.magnet.fsu.edu/cells/animals/images/mitochondria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wx.prenhall.com/horton/medialib/media_portfolio/text_images/FG01_15-03U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icro.magnet.fsu.edu/cells/animals/images/endoplasmic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cience.siu.edu/plant-biology/PLB117/JPEGs%20CD/0073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biology.arizona.edu/.../ kidneysmetals/07t.ht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6866-DA29-4ED3-8055-FDEF9F2FC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:  http://biology4kids.com/files/cell_golgi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ioethics.org.nz/publications/human-genes-discussion-jan04/html/page4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personal.tmlp.com/Jimr57/textbook/chapter3/cyto1d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B5D0-52FB-4DF9-841B-FE1B3D774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ages.google.com/imgres?imgurl=www.bi.umist.ac.uk/users/mjfjam/1CAT/cytoskeleton.gif&amp;imgrefurl=http://www.bi.umist.ac.uk/users/mjfjam/1CAT/l007.htm&amp;h=233&amp;w=419&amp;prev=/images%3Fq%3DCYTOSKELETON%26svnum%3D10%26hl%3Den%26lr%3D%26ie%3DUTF-8%26oe%3DUTF-8%26sa%3D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ages.google.com/imgres?imgurl=www.personal.psu.edu/users/a/m/amh244/cytoskeleton.GIF&amp;imgrefurl=http://www.personal.psu.edu/users/a/m/amh244/cytoskelet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ml&amp;h=299&amp;w=350&amp;prev=/images%3Fq%3DCYTOSKELETON%26svnum%3D10%26hl%3Den%26lr%3D%26ie%3DUTF-8%26oe%3DUTF-8%26sa%3D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bs.dtu.dk/staff/dave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/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oanoke/oakcell.ht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fig.cox.miami.edu/Faculty/Dana/chloroplast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ig.cox.miami.edu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/Faculty/ Dana/105F00_11.ht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dservices.aea7.k12.ia.us/.../ cwinstead3/centrioles.ht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nv.jussieu.fr/bmedia/Mitose/Centri3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iologia.pl/kurs/centriole_b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tanford.edu/group/hopes/ basics/dna/b1.ht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6D88-8432-4BFF-BF92-8B2CB4AE6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D98E-2F8B-40C2-A4E4-D0C1092D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DFB7-F2A4-4480-A55D-4DD54723C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7055-06D3-4751-86CB-67138693F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FFE8-C5F2-444A-BBD6-5BCBB8826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AC45-FA4F-4F93-949A-FB6603FE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B104-939A-4830-AF1C-1C84D918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862B-E8CF-47C0-BA56-A8EDB636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8302-17D7-4E2F-8532-0BBBF6C7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1289-25F8-4907-9CAF-CCED1800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56FA-7D80-4D45-A4AE-50EE3298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25ED-8EA9-4AE9-ACB8-856AFE82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9D83-D47B-470A-BD7E-7210729C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5189-8901-47D4-9794-A3467247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A59E-D989-45B1-9A4A-7B751D6D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7695-4F33-4814-A9FB-837A81FF8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953A5-7147-4F07-9BE0-98C06BBA0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B4E6-A66E-4FF1-94B1-18DF8538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5A4F-DE95-4E80-912C-2E6A068E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47BD-F70C-4EB5-A7BE-20ADEA74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4028-3888-437F-8BF2-9D999428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41E2-613C-4F2F-8D5C-75427DD4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0D61-4209-439F-A9BE-A763149A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6DE6-AA61-4FC7-99C3-4A44440D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F97E-DF5A-4B96-8D3C-EFB66BE4BCD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C2CC-0844-4333-8B3A-6755001C486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bi.umist.ac.uk/users/mjfjam/1CAT/cytoskeleton.gif" TargetMode="External"/><Relationship Id="rId2" Type="http://schemas.openxmlformats.org/officeDocument/2006/relationships/image" Target="../media/image31.png"/><Relationship Id="rId3" Type="http://schemas.openxmlformats.org/officeDocument/2006/relationships/hyperlink" Target="http://www.personal.psu.edu/users/a/m/amh244/cytoskeleton.GIF" TargetMode="External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143000" y="228600"/>
            <a:ext cx="69343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 Organelles</a:t>
            </a:r>
            <a:endParaRPr b="0" lang="en-US" sz="1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1523880"/>
            <a:ext cx="8534520" cy="54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33"/>
                </a:solidFill>
                <a:latin typeface="Comic Sans MS"/>
              </a:rPr>
              <a:t>-nucleus</a:t>
            </a:r>
            <a:r>
              <a:rPr b="0" lang="en-US" sz="30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66ff33"/>
                </a:solidFill>
                <a:latin typeface="Comic Sans MS"/>
              </a:rPr>
              <a:t>-cytoplasm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-nucleolus</a:t>
            </a: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-cytoskeleton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Comic Sans MS"/>
              </a:rPr>
              <a:t>-cell membrane</a:t>
            </a:r>
            <a:r>
              <a:rPr b="0" lang="en-US" sz="30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ff6600"/>
                </a:solidFill>
                <a:latin typeface="Comic Sans MS"/>
              </a:rPr>
              <a:t>-vacuole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33"/>
                </a:solidFill>
                <a:latin typeface="Comic Sans MS"/>
              </a:rPr>
              <a:t>-mitochondria</a:t>
            </a:r>
            <a:r>
              <a:rPr b="0" lang="en-US" sz="30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66ff33"/>
                </a:solidFill>
                <a:latin typeface="Comic Sans MS"/>
              </a:rPr>
              <a:t>-chloroplast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Comic Sans MS"/>
              </a:rPr>
              <a:t>-golgi Apparatus</a:t>
            </a:r>
            <a:r>
              <a:rPr b="0" lang="en-US" sz="30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ff6600"/>
                </a:solidFill>
                <a:latin typeface="Comic Sans MS"/>
              </a:rPr>
              <a:t>-centriole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-lysosomes</a:t>
            </a: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-ribosome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ff6600"/>
                </a:solidFill>
                <a:latin typeface="Comic Sans MS"/>
              </a:rPr>
              <a:t>      </a:t>
            </a:r>
            <a:r>
              <a:rPr b="0" lang="en-US" sz="3000" spc="-1" strike="noStrike">
                <a:solidFill>
                  <a:srgbClr val="66ff33"/>
                </a:solidFill>
                <a:latin typeface="Comic Sans MS"/>
              </a:rPr>
              <a:t>-endoplasmic reticulum(ER)</a:t>
            </a:r>
            <a:r>
              <a:rPr b="0" lang="en-US" sz="3000" spc="-1" strike="noStrike">
                <a:solidFill>
                  <a:srgbClr val="66ff33"/>
                </a:solidFill>
                <a:latin typeface="Comic Sans MS"/>
              </a:rPr>
              <a:t>	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66ff33"/>
                </a:solidFill>
                <a:latin typeface="Comic Sans MS"/>
              </a:rPr>
              <a:t>       </a:t>
            </a:r>
            <a:r>
              <a:rPr b="0" i="1" lang="en-US" sz="3000" spc="-1" strike="noStrike">
                <a:solidFill>
                  <a:srgbClr val="66ff33"/>
                </a:solidFill>
                <a:latin typeface="Comic Sans MS"/>
              </a:rPr>
              <a:t>*Rough ER  &amp; Smooth ER</a:t>
            </a:r>
            <a:r>
              <a:rPr b="0" lang="en-US" sz="30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ff6600"/>
                </a:solidFill>
                <a:latin typeface="Comic Sans MS"/>
              </a:rPr>
              <a:t>	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6A74-A910-4448-8E90-D59792441BC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1062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Cell Membrane: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PHOSPHOLIPID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19720" y="838080"/>
            <a:ext cx="4647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ach phospholipids has a 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HYDROPHOBIC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and </a:t>
            </a:r>
            <a:r>
              <a:rPr b="1" lang="en-US" sz="3200" spc="-1" strike="noStrike" u="sng">
                <a:solidFill>
                  <a:srgbClr val="ff6600"/>
                </a:solidFill>
                <a:uFillTx/>
                <a:latin typeface="Comic Sans MS"/>
              </a:rPr>
              <a:t>HYDROPHILIC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en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62520" y="5105520"/>
            <a:ext cx="495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HYDRO =  means water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PHOBIC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= means afrai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PHILIC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= means lov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28600" y="746280"/>
            <a:ext cx="3581280" cy="2149200"/>
          </a:xfrm>
          <a:prstGeom prst="rect">
            <a:avLst/>
          </a:prstGeom>
          <a:ln w="76320">
            <a:solidFill>
              <a:srgbClr val="993366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6667" t="5442" r="8798" b="4157"/>
          <a:stretch/>
        </p:blipFill>
        <p:spPr>
          <a:xfrm>
            <a:off x="5410080" y="2514600"/>
            <a:ext cx="2898720" cy="2583000"/>
          </a:xfrm>
          <a:prstGeom prst="rect">
            <a:avLst/>
          </a:prstGeom>
          <a:ln w="76320">
            <a:solidFill>
              <a:srgbClr val="56002b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7796" t="0" r="0" b="4104"/>
          <a:stretch/>
        </p:blipFill>
        <p:spPr>
          <a:xfrm>
            <a:off x="228600" y="3352680"/>
            <a:ext cx="3429000" cy="3119400"/>
          </a:xfrm>
          <a:prstGeom prst="rect">
            <a:avLst/>
          </a:prstGeom>
          <a:ln w="76320">
            <a:solidFill>
              <a:srgbClr val="220011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CDF2-C086-4203-B282-19E1661D4D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1130400"/>
            <a:ext cx="82296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ff"/>
                </a:solidFill>
                <a:latin typeface="Comic Sans MS"/>
              </a:rPr>
              <a:t>One end of the molecule is “</a:t>
            </a:r>
            <a:r>
              <a:rPr b="1" lang="en-US" sz="3200" spc="-1" strike="noStrike">
                <a:solidFill>
                  <a:srgbClr val="ff99ff"/>
                </a:solidFill>
                <a:latin typeface="Comic Sans MS"/>
              </a:rPr>
              <a:t>afraid</a:t>
            </a:r>
            <a:r>
              <a:rPr b="0" lang="en-US" sz="3200" spc="-1" strike="noStrike">
                <a:solidFill>
                  <a:srgbClr val="ff99ff"/>
                </a:solidFill>
                <a:latin typeface="Comic Sans MS"/>
              </a:rPr>
              <a:t>” of the water and one end “</a:t>
            </a:r>
            <a:r>
              <a:rPr b="1" lang="en-US" sz="3200" spc="-1" strike="noStrike">
                <a:solidFill>
                  <a:srgbClr val="ff99ff"/>
                </a:solidFill>
                <a:latin typeface="Comic Sans MS"/>
              </a:rPr>
              <a:t>loves</a:t>
            </a:r>
            <a:r>
              <a:rPr b="0" lang="en-US" sz="3200" spc="-1" strike="noStrike">
                <a:solidFill>
                  <a:srgbClr val="ff99ff"/>
                </a:solidFill>
                <a:latin typeface="Comic Sans MS"/>
              </a:rPr>
              <a:t>” being in the water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Proteins are stuck inside the membran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Proteins are across the bilayer and make the holes that let ions and molecules in and out of the cel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062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Cell Membrane: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PHOSPHOLIPID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43B0-EFCF-42CF-92E0-C70166D884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8001000" cy="51768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145" name=""/>
          <p:cNvSpPr txBox="1"/>
          <p:nvPr/>
        </p:nvSpPr>
        <p:spPr>
          <a:xfrm>
            <a:off x="1876320" y="685800"/>
            <a:ext cx="52102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Cell Membrane</a:t>
            </a:r>
            <a:endParaRPr b="1" lang="en-US" sz="6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E16E-B3A8-4D31-B0DD-A493534ACE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172200" y="53352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905120" y="228600"/>
            <a:ext cx="3733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ff33"/>
                </a:solidFill>
                <a:uFillTx/>
                <a:latin typeface="Comic Sans MS"/>
              </a:rPr>
              <a:t>M</a:t>
            </a:r>
            <a:r>
              <a:rPr b="1" lang="en-US" sz="4400" spc="-1" strike="noStrike" u="sng">
                <a:solidFill>
                  <a:srgbClr val="ffcc00"/>
                </a:solidFill>
                <a:uFillTx/>
                <a:latin typeface="Comic Sans MS"/>
              </a:rPr>
              <a:t>i</a:t>
            </a:r>
            <a:r>
              <a:rPr b="1" lang="en-US" sz="4400" spc="-1" strike="noStrike" u="sng">
                <a:solidFill>
                  <a:srgbClr val="66ff33"/>
                </a:solidFill>
                <a:uFillTx/>
                <a:latin typeface="Comic Sans MS"/>
              </a:rPr>
              <a:t>t</a:t>
            </a:r>
            <a:r>
              <a:rPr b="1" lang="en-US" sz="4400" spc="-1" strike="noStrike" u="sng">
                <a:solidFill>
                  <a:srgbClr val="ffcc00"/>
                </a:solidFill>
                <a:uFillTx/>
                <a:latin typeface="Comic Sans MS"/>
              </a:rPr>
              <a:t>o</a:t>
            </a:r>
            <a:r>
              <a:rPr b="1" lang="en-US" sz="4400" spc="-1" strike="noStrike" u="sng">
                <a:solidFill>
                  <a:srgbClr val="66ff33"/>
                </a:solidFill>
                <a:uFillTx/>
                <a:latin typeface="Comic Sans MS"/>
              </a:rPr>
              <a:t>c</a:t>
            </a:r>
            <a:r>
              <a:rPr b="1" lang="en-US" sz="4400" spc="-1" strike="noStrike" u="sng">
                <a:solidFill>
                  <a:srgbClr val="ffcc00"/>
                </a:solidFill>
                <a:uFillTx/>
                <a:latin typeface="Comic Sans MS"/>
              </a:rPr>
              <a:t>h</a:t>
            </a:r>
            <a:r>
              <a:rPr b="1" lang="en-US" sz="4400" spc="-1" strike="noStrike" u="sng">
                <a:solidFill>
                  <a:srgbClr val="66ff33"/>
                </a:solidFill>
                <a:uFillTx/>
                <a:latin typeface="Comic Sans MS"/>
              </a:rPr>
              <a:t>o</a:t>
            </a:r>
            <a:r>
              <a:rPr b="1" lang="en-US" sz="4400" spc="-1" strike="noStrike" u="sng">
                <a:solidFill>
                  <a:srgbClr val="ffcc00"/>
                </a:solidFill>
                <a:uFillTx/>
                <a:latin typeface="Comic Sans MS"/>
              </a:rPr>
              <a:t>n</a:t>
            </a:r>
            <a:r>
              <a:rPr b="1" lang="en-US" sz="4400" spc="-1" strike="noStrike" u="sng">
                <a:solidFill>
                  <a:srgbClr val="66ff33"/>
                </a:solidFill>
                <a:uFillTx/>
                <a:latin typeface="Comic Sans MS"/>
              </a:rPr>
              <a:t>d</a:t>
            </a:r>
            <a:r>
              <a:rPr b="1" lang="en-US" sz="4400" spc="-1" strike="noStrike" u="sng">
                <a:solidFill>
                  <a:srgbClr val="ffcc00"/>
                </a:solidFill>
                <a:uFillTx/>
                <a:latin typeface="Comic Sans MS"/>
              </a:rPr>
              <a:t>r</a:t>
            </a:r>
            <a:r>
              <a:rPr b="1" lang="en-US" sz="4400" spc="-1" strike="noStrike" u="sng">
                <a:solidFill>
                  <a:srgbClr val="66ff33"/>
                </a:solidFill>
                <a:uFillTx/>
                <a:latin typeface="Comic Sans MS"/>
              </a:rPr>
              <a:t>i</a:t>
            </a:r>
            <a:r>
              <a:rPr b="1" lang="en-US" sz="4400" spc="-1" strike="noStrike" u="sng">
                <a:solidFill>
                  <a:srgbClr val="ffcc00"/>
                </a:solidFill>
                <a:uFillTx/>
                <a:latin typeface="Comic Sans MS"/>
              </a:rPr>
              <a:t>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1371600"/>
            <a:ext cx="8839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Mito =  </a:t>
            </a: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Mighty / Pow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The Power-House of the cel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They break down food molecules so the cell has the energy to liv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If a cell needs a lot of energy…it will have more mitochondri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0663-A1AB-4067-8B5A-771A6BC53D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8600" y="5791320"/>
            <a:ext cx="929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o…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the more space it has the more energy it can crea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04920" y="0"/>
            <a:ext cx="8839080" cy="5181480"/>
            <a:chOff x="304920" y="0"/>
            <a:chExt cx="8839080" cy="5181480"/>
          </a:xfrm>
        </p:grpSpPr>
        <p:sp>
          <p:nvSpPr>
            <p:cNvPr id="151" name=""/>
            <p:cNvSpPr/>
            <p:nvPr/>
          </p:nvSpPr>
          <p:spPr>
            <a:xfrm>
              <a:off x="304920" y="0"/>
              <a:ext cx="8839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 u="sng">
                  <a:solidFill>
                    <a:srgbClr val="ffffcc"/>
                  </a:solidFill>
                  <a:uFillTx/>
                  <a:latin typeface="Comic Sans MS"/>
                </a:rPr>
                <a:t>The Mitochondria structure has </a:t>
              </a:r>
              <a:r>
                <a:rPr b="1" i="1" lang="en-US" sz="3200" spc="-1" strike="noStrike" u="sng">
                  <a:solidFill>
                    <a:srgbClr val="9c004e"/>
                  </a:solidFill>
                  <a:uFillTx/>
                  <a:latin typeface="Comic Sans MS"/>
                </a:rPr>
                <a:t>three</a:t>
              </a:r>
              <a:r>
                <a:rPr b="1" i="1" lang="en-US" sz="3200" spc="-1" strike="noStrike" u="sng">
                  <a:solidFill>
                    <a:srgbClr val="ffffcc"/>
                  </a:solidFill>
                  <a:uFillTx/>
                  <a:latin typeface="Comic Sans MS"/>
                </a:rPr>
                <a:t> main parts:</a:t>
              </a:r>
              <a:endParaRPr b="0" lang="en-US" sz="3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pic>
          <p:nvPicPr>
            <p:cNvPr id="152" name="" descr=""/>
            <p:cNvPicPr/>
            <p:nvPr/>
          </p:nvPicPr>
          <p:blipFill>
            <a:blip r:embed="rId1"/>
            <a:stretch/>
          </p:blipFill>
          <p:spPr>
            <a:xfrm>
              <a:off x="4648320" y="1219320"/>
              <a:ext cx="4343400" cy="3962160"/>
            </a:xfrm>
            <a:prstGeom prst="rect">
              <a:avLst/>
            </a:prstGeom>
            <a:ln w="57240">
              <a:solidFill>
                <a:srgbClr val="ffffcc"/>
              </a:solidFill>
              <a:miter/>
            </a:ln>
          </p:spPr>
        </p:pic>
      </p:grpSp>
      <p:grpSp>
        <p:nvGrpSpPr>
          <p:cNvPr id="153" name=""/>
          <p:cNvGrpSpPr/>
          <p:nvPr/>
        </p:nvGrpSpPr>
        <p:grpSpPr>
          <a:xfrm>
            <a:off x="228600" y="1447920"/>
            <a:ext cx="8067240" cy="4480920"/>
            <a:chOff x="228600" y="1447920"/>
            <a:chExt cx="8067240" cy="4480920"/>
          </a:xfrm>
        </p:grpSpPr>
        <p:sp>
          <p:nvSpPr>
            <p:cNvPr id="154" name=""/>
            <p:cNvSpPr/>
            <p:nvPr/>
          </p:nvSpPr>
          <p:spPr>
            <a:xfrm>
              <a:off x="228600" y="1447920"/>
              <a:ext cx="4343400" cy="44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9c004e"/>
                  </a:solidFill>
                  <a:uFillTx/>
                  <a:latin typeface="Comic Sans MS"/>
                </a:rPr>
                <a:t>OUTER MEMBRANE:</a:t>
              </a:r>
              <a:r>
                <a:rPr b="0" lang="en-US" sz="3200" spc="-1" strike="noStrike">
                  <a:solidFill>
                    <a:srgbClr val="ffffcc"/>
                  </a:solidFill>
                  <a:latin typeface="Comic Sans MS"/>
                </a:rPr>
                <a:t> covers the mitochondria</a:t>
              </a:r>
              <a:endParaRPr b="0" lang="en-US" sz="3200" spc="-1" strike="noStrike">
                <a:solidFill>
                  <a:srgbClr val="ffff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Comic Sans MS"/>
                </a:rPr>
                <a:t>	</a:t>
              </a:r>
              <a:endParaRPr b="0" lang="en-US" sz="3200" spc="-1" strike="noStrike">
                <a:solidFill>
                  <a:srgbClr val="ffff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9c004e"/>
                  </a:solidFill>
                  <a:uFillTx/>
                  <a:latin typeface="Comic Sans MS"/>
                </a:rPr>
                <a:t>INNER MEMBRANE:</a:t>
              </a:r>
              <a:r>
                <a:rPr b="0" lang="en-US" sz="3200" spc="-1" strike="noStrike">
                  <a:solidFill>
                    <a:srgbClr val="ffffcc"/>
                  </a:solidFill>
                  <a:latin typeface="Comic Sans MS"/>
                </a:rPr>
                <a:t> folds many times to increase the surface area because chemical reactions</a:t>
              </a:r>
              <a:endParaRPr b="0" lang="en-US" sz="3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13560" y="5334120"/>
              <a:ext cx="438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Comic Sans MS"/>
                </a:rPr>
                <a:t>(glycolysis) occur here</a:t>
              </a:r>
              <a:endParaRPr b="0" lang="en-US" sz="32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159A-B079-42AB-B616-B8A1E92A66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52280" y="201600"/>
            <a:ext cx="38102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MATRIX</a:t>
            </a: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: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 fluid that has water and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roteins all mixed together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(like a solution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The protein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take the food molecules in and combine them with Oxygen to release the energy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886200" y="380880"/>
            <a:ext cx="5057640" cy="60962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1340-7D11-45F2-96D4-B943416380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71600" y="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Comic Sans MS"/>
              </a:rPr>
              <a:t>E</a:t>
            </a:r>
            <a:r>
              <a:rPr b="1" lang="en-US" sz="4400" spc="-1" strike="noStrike" u="sng">
                <a:solidFill>
                  <a:srgbClr val="9c004e"/>
                </a:solidFill>
                <a:uFillTx/>
                <a:latin typeface="Comic Sans MS"/>
              </a:rPr>
              <a:t>n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Comic Sans MS"/>
              </a:rPr>
              <a:t>d</a:t>
            </a:r>
            <a:r>
              <a:rPr b="1" lang="en-US" sz="4400" spc="-1" strike="noStrike" u="sng">
                <a:solidFill>
                  <a:srgbClr val="9c004e"/>
                </a:solidFill>
                <a:uFillTx/>
                <a:latin typeface="Comic Sans MS"/>
              </a:rPr>
              <a:t>o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Comic Sans MS"/>
              </a:rPr>
              <a:t>p</a:t>
            </a:r>
            <a:r>
              <a:rPr b="1" lang="en-US" sz="4400" spc="-1" strike="noStrike" u="sng">
                <a:solidFill>
                  <a:srgbClr val="9c004e"/>
                </a:solidFill>
                <a:uFillTx/>
                <a:latin typeface="Comic Sans MS"/>
              </a:rPr>
              <a:t>l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Comic Sans MS"/>
              </a:rPr>
              <a:t>a</a:t>
            </a:r>
            <a:r>
              <a:rPr b="1" lang="en-US" sz="4400" spc="-1" strike="noStrike" u="sng">
                <a:solidFill>
                  <a:srgbClr val="9c004e"/>
                </a:solidFill>
                <a:uFillTx/>
                <a:latin typeface="Comic Sans MS"/>
              </a:rPr>
              <a:t>s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Comic Sans MS"/>
              </a:rPr>
              <a:t>m</a:t>
            </a:r>
            <a:r>
              <a:rPr b="1" lang="en-US" sz="4400" spc="-1" strike="noStrike" u="sng">
                <a:solidFill>
                  <a:srgbClr val="9c004e"/>
                </a:solidFill>
                <a:uFillTx/>
                <a:latin typeface="Comic Sans MS"/>
              </a:rPr>
              <a:t>i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Comic Sans MS"/>
              </a:rPr>
              <a:t>c R</a:t>
            </a:r>
            <a:r>
              <a:rPr b="1" lang="en-US" sz="4400" spc="-1" strike="noStrike" u="sng">
                <a:solidFill>
                  <a:srgbClr val="9c004e"/>
                </a:solidFill>
                <a:uFillTx/>
                <a:latin typeface="Comic Sans MS"/>
              </a:rPr>
              <a:t>e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Comic Sans MS"/>
              </a:rPr>
              <a:t>t</a:t>
            </a:r>
            <a:r>
              <a:rPr b="1" lang="en-US" sz="4400" spc="-1" strike="noStrike" u="sng">
                <a:solidFill>
                  <a:srgbClr val="9c004e"/>
                </a:solidFill>
                <a:uFillTx/>
                <a:latin typeface="Comic Sans MS"/>
              </a:rPr>
              <a:t>i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Comic Sans MS"/>
              </a:rPr>
              <a:t>c</a:t>
            </a:r>
            <a:r>
              <a:rPr b="1" lang="en-US" sz="4400" spc="-1" strike="noStrike" u="sng">
                <a:solidFill>
                  <a:srgbClr val="9c004e"/>
                </a:solidFill>
                <a:uFillTx/>
                <a:latin typeface="Comic Sans MS"/>
              </a:rPr>
              <a:t>u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Comic Sans MS"/>
              </a:rPr>
              <a:t>l</a:t>
            </a:r>
            <a:r>
              <a:rPr b="1" lang="en-US" sz="4400" spc="-1" strike="noStrike" u="sng">
                <a:solidFill>
                  <a:srgbClr val="9c004e"/>
                </a:solidFill>
                <a:uFillTx/>
                <a:latin typeface="Comic Sans MS"/>
              </a:rPr>
              <a:t>u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Comic Sans MS"/>
              </a:rPr>
              <a:t>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990720"/>
            <a:ext cx="8839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lso known as the “ER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it is an organelle inside the cell that i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made up of membranes that are in the CYTOPLASM of the cell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There are two different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e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mooth 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Rough 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0" name="medance" descr=""/>
          <p:cNvPicPr/>
          <p:nvPr/>
        </p:nvPicPr>
        <p:blipFill>
          <a:blip r:embed="rId1"/>
          <a:stretch/>
        </p:blipFill>
        <p:spPr>
          <a:xfrm>
            <a:off x="5638680" y="3581280"/>
            <a:ext cx="2949840" cy="2822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5166-4AF5-4171-973C-5E7B26CF01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52280" y="611280"/>
            <a:ext cx="8839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cc"/>
                </a:solidFill>
                <a:uFillTx/>
                <a:latin typeface="Comic Sans MS"/>
              </a:rPr>
              <a:t>Smooth ER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Main function is to collect, maintain &amp; transport thing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haped slightly tubula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Creates steroid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tores Ions for the cell to keep nutrients balanc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2" name="smooth_er" descr=""/>
          <p:cNvPicPr/>
          <p:nvPr/>
        </p:nvPicPr>
        <p:blipFill>
          <a:blip r:embed="rId1"/>
          <a:stretch/>
        </p:blipFill>
        <p:spPr>
          <a:xfrm>
            <a:off x="6858000" y="76320"/>
            <a:ext cx="1819440" cy="198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F832-54A7-4EBC-9F7B-B4D56FE315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2280" y="444600"/>
            <a:ext cx="883944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66ff33"/>
                </a:solidFill>
                <a:uFillTx/>
                <a:latin typeface="Comic Sans MS"/>
              </a:rPr>
              <a:t>Rough ER</a:t>
            </a:r>
            <a:r>
              <a:rPr b="0" lang="en-US" sz="4800" spc="-1" strike="noStrike">
                <a:solidFill>
                  <a:srgbClr val="66ff33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Comic Sans MS"/>
              </a:rPr>
              <a:t>It has bumps all over it giving it a “rough” appearance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Bumps are called RIBOSOM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Comic Sans MS"/>
              </a:rPr>
              <a:t>ER collects the proteins (built by the ribosomes) and creates a bubble around th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VESICLE- is formed when the ER pinches off a part of its membran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4" name="rough_er" descr=""/>
          <p:cNvPicPr/>
          <p:nvPr/>
        </p:nvPicPr>
        <p:blipFill>
          <a:blip r:embed="rId1"/>
          <a:stretch/>
        </p:blipFill>
        <p:spPr>
          <a:xfrm>
            <a:off x="6667560" y="2057400"/>
            <a:ext cx="2247840" cy="14241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743200" y="1676520"/>
            <a:ext cx="4495680" cy="609480"/>
          </a:xfrm>
          <a:prstGeom prst="line">
            <a:avLst/>
          </a:prstGeom>
          <a:ln cap="sq"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7408-F107-44BB-A25E-80C1BFF650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28600" y="457200"/>
            <a:ext cx="861048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omic Sans MS"/>
              </a:rPr>
              <a:t>**The vesicle can then move to the Golgi apparatus or the cell membrane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1)</a:t>
            </a: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If the vesicle floats to the cell membrane, the proteins are going to be sent </a:t>
            </a:r>
            <a:r>
              <a:rPr b="1" i="1" lang="en-US" sz="3000" spc="-1" strike="noStrike">
                <a:solidFill>
                  <a:srgbClr val="ffff00"/>
                </a:solidFill>
                <a:latin typeface="Comic Sans MS"/>
              </a:rPr>
              <a:t>out</a:t>
            </a: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 of the cell……or (exocytosis)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33"/>
                </a:solidFill>
                <a:latin typeface="Comic Sans MS"/>
              </a:rPr>
              <a:t>2)</a:t>
            </a:r>
            <a:r>
              <a:rPr b="0" lang="en-US" sz="30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66ff33"/>
                </a:solidFill>
                <a:latin typeface="Comic Sans MS"/>
              </a:rPr>
              <a:t>If they move to the Golgi Apparatus, the proteins will be used </a:t>
            </a:r>
            <a:r>
              <a:rPr b="1" lang="en-US" sz="3000" spc="-1" strike="noStrike" u="sng">
                <a:solidFill>
                  <a:srgbClr val="66ff33"/>
                </a:solidFill>
                <a:uFillTx/>
                <a:latin typeface="Comic Sans MS"/>
              </a:rPr>
              <a:t>inside</a:t>
            </a:r>
            <a:r>
              <a:rPr b="0" lang="en-US" sz="3000" spc="-1" strike="noStrike">
                <a:solidFill>
                  <a:srgbClr val="66ff33"/>
                </a:solidFill>
                <a:latin typeface="Comic Sans MS"/>
              </a:rPr>
              <a:t> the cel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763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ff"/>
                </a:solidFill>
                <a:uFillTx/>
                <a:latin typeface="Comic Sans MS"/>
              </a:rPr>
              <a:t>MOVEMENT of VESICL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5099-8349-4EB7-9C8D-F122342868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990720"/>
            <a:ext cx="464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cleu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2211480"/>
            <a:ext cx="8229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The “brain” of the cel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ontrols all of the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ellular activit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DNA is inside the nucle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9589" t="5062" r="7227" b="5062"/>
          <a:stretch/>
        </p:blipFill>
        <p:spPr>
          <a:xfrm>
            <a:off x="5332320" y="736560"/>
            <a:ext cx="3430800" cy="3530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3962520" y="1600200"/>
            <a:ext cx="2590560" cy="60948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6599-DEEA-4281-81DD-612938358A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2297160" cy="2743200"/>
          </a:xfrm>
          <a:prstGeom prst="rect">
            <a:avLst/>
          </a:prstGeom>
          <a:ln w="76320">
            <a:solidFill>
              <a:srgbClr val="ffffcc"/>
            </a:solidFill>
            <a:miter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886200" y="2895480"/>
            <a:ext cx="5029200" cy="3687840"/>
          </a:xfrm>
          <a:prstGeom prst="rect">
            <a:avLst/>
          </a:prstGeom>
          <a:ln w="76320">
            <a:solidFill>
              <a:srgbClr val="220011"/>
            </a:solidFill>
            <a:miter/>
          </a:ln>
        </p:spPr>
      </p:pic>
      <p:sp>
        <p:nvSpPr>
          <p:cNvPr id="170" name=""/>
          <p:cNvSpPr txBox="1"/>
          <p:nvPr/>
        </p:nvSpPr>
        <p:spPr>
          <a:xfrm rot="19390200">
            <a:off x="-228240" y="2333160"/>
            <a:ext cx="75913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mooth ER  vs.  Rough ER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36DC-96DD-4F21-AC45-301D6D91AA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5ADA-6A63-40E7-BC7C-ACE09F03F8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85800" y="1844640"/>
            <a:ext cx="7848720" cy="2803680"/>
          </a:xfrm>
          <a:prstGeom prst="rect">
            <a:avLst/>
          </a:prstGeom>
          <a:ln w="57240">
            <a:solidFill>
              <a:srgbClr val="ffffcc"/>
            </a:solidFill>
            <a:miter/>
          </a:ln>
        </p:spPr>
      </p:pic>
      <p:sp>
        <p:nvSpPr>
          <p:cNvPr id="173" name=""/>
          <p:cNvSpPr txBox="1"/>
          <p:nvPr/>
        </p:nvSpPr>
        <p:spPr>
          <a:xfrm>
            <a:off x="838080" y="838080"/>
            <a:ext cx="16858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Secretion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86400" y="838080"/>
            <a:ext cx="16858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Exocytosis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25780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The </a:t>
            </a:r>
            <a:r>
              <a:rPr b="1" lang="en-US" sz="3200" spc="-1" strike="noStrike" u="sng">
                <a:solidFill>
                  <a:srgbClr val="66ffff"/>
                </a:solidFill>
                <a:uFillTx/>
                <a:latin typeface="Arial"/>
              </a:rPr>
              <a:t>release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 of intracellular molecules (hormones or protein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320" y="5410080"/>
            <a:ext cx="296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ff33"/>
                </a:solidFill>
                <a:uFillTx/>
                <a:latin typeface="Arial"/>
              </a:rPr>
              <a:t>EXOCYTOSI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064E-9988-408F-9149-43572800EB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channel protein"/>
          <p:cNvPicPr/>
          <p:nvPr/>
        </p:nvPicPr>
        <p:blipFill>
          <a:blip r:embed="rId1"/>
          <a:stretch/>
        </p:blipFill>
        <p:spPr>
          <a:xfrm>
            <a:off x="457200" y="2057400"/>
            <a:ext cx="4267080" cy="42670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2133720" y="609480"/>
            <a:ext cx="380988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OSMOSIS</a:t>
            </a:r>
            <a:endParaRPr b="1" lang="en-US" sz="6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2057400"/>
            <a:ext cx="4495680" cy="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6324480"/>
            <a:ext cx="4495680" cy="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04920" y="2057040"/>
            <a:ext cx="0" cy="434340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800600" y="2057040"/>
            <a:ext cx="0" cy="426708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743200"/>
            <a:ext cx="37339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Osmosis-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the movement of water across the cell membran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6308-D2C1-4F06-B88E-24385557E8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ff33"/>
                </a:solidFill>
                <a:uFillTx/>
                <a:latin typeface="Comic Sans MS"/>
                <a:ea typeface="Times New Roman"/>
              </a:rPr>
              <a:t>GOLGI APPARATU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133720" y="32000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ff33"/>
                </a:solidFill>
                <a:uFillTx/>
                <a:latin typeface="Comic Sans MS"/>
                <a:ea typeface="Times New Roman"/>
              </a:rPr>
              <a:t>WHAT DOES IT DO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4038480"/>
            <a:ext cx="91440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omic Sans MS"/>
                <a:ea typeface="Times New Roman"/>
              </a:rPr>
              <a:t>1)  it takes simple </a:t>
            </a:r>
            <a:r>
              <a:rPr b="0" lang="en-US" sz="3000" spc="-1" strike="noStrike" u="sng">
                <a:solidFill>
                  <a:srgbClr val="ffcc00"/>
                </a:solidFill>
                <a:uFillTx/>
                <a:latin typeface="Comic Sans MS"/>
                <a:ea typeface="Times New Roman"/>
              </a:rPr>
              <a:t>molecules</a:t>
            </a:r>
            <a:r>
              <a:rPr b="0" lang="en-US" sz="3000" spc="-1" strike="noStrike">
                <a:solidFill>
                  <a:srgbClr val="ffcc00"/>
                </a:solidFill>
                <a:latin typeface="Comic Sans MS"/>
                <a:ea typeface="Times New Roman"/>
              </a:rPr>
              <a:t> and </a:t>
            </a:r>
            <a:r>
              <a:rPr b="0" lang="en-US" sz="3000" spc="-1" strike="noStrike" u="sng">
                <a:solidFill>
                  <a:srgbClr val="ffcc00"/>
                </a:solidFill>
                <a:uFillTx/>
                <a:latin typeface="Comic Sans MS"/>
                <a:ea typeface="Times New Roman"/>
              </a:rPr>
              <a:t>combines</a:t>
            </a:r>
            <a:r>
              <a:rPr b="0" lang="en-US" sz="3000" spc="-1" strike="noStrike">
                <a:solidFill>
                  <a:srgbClr val="ffcc00"/>
                </a:solidFill>
                <a:latin typeface="Comic Sans MS"/>
                <a:ea typeface="Times New Roman"/>
              </a:rPr>
              <a:t> them to make </a:t>
            </a:r>
            <a:r>
              <a:rPr b="0" lang="en-US" sz="3000" spc="-1" strike="noStrike" u="sng">
                <a:solidFill>
                  <a:srgbClr val="ffcc00"/>
                </a:solidFill>
                <a:uFillTx/>
                <a:latin typeface="Comic Sans MS"/>
                <a:ea typeface="Times New Roman"/>
              </a:rPr>
              <a:t>larger</a:t>
            </a:r>
            <a:r>
              <a:rPr b="0" lang="en-US" sz="3000" spc="-1" strike="noStrike">
                <a:solidFill>
                  <a:srgbClr val="ffcc00"/>
                </a:solidFill>
                <a:latin typeface="Comic Sans MS"/>
                <a:ea typeface="Times New Roman"/>
              </a:rPr>
              <a:t> molecules.</a:t>
            </a:r>
            <a:r>
              <a:rPr b="0" lang="en-US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516564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2) takes those larger </a:t>
            </a:r>
            <a:r>
              <a:rPr b="0" lang="en-US" sz="3000" spc="-1" strike="noStrike" u="sng">
                <a:solidFill>
                  <a:srgbClr val="ff66ff"/>
                </a:solidFill>
                <a:uFillTx/>
                <a:latin typeface="Comic Sans MS"/>
                <a:ea typeface="Times New Roman"/>
              </a:rPr>
              <a:t>molecules</a:t>
            </a:r>
            <a:r>
              <a:rPr b="0" lang="en-US" sz="3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 and puts them into </a:t>
            </a:r>
            <a:r>
              <a:rPr b="0" lang="en-US" sz="3000" spc="-1" strike="noStrike" u="sng">
                <a:solidFill>
                  <a:srgbClr val="ff66ff"/>
                </a:solidFill>
                <a:uFillTx/>
                <a:latin typeface="Comic Sans MS"/>
                <a:ea typeface="Times New Roman"/>
              </a:rPr>
              <a:t>packs</a:t>
            </a:r>
            <a:r>
              <a:rPr b="0" lang="en-US" sz="30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 called GOLGI </a:t>
            </a:r>
            <a:r>
              <a:rPr b="0" lang="en-US" sz="3000" spc="-1" strike="noStrike" u="sng">
                <a:solidFill>
                  <a:srgbClr val="ff66ff"/>
                </a:solidFill>
                <a:uFillTx/>
                <a:latin typeface="Comic Sans MS"/>
                <a:ea typeface="Times New Roman"/>
              </a:rPr>
              <a:t>VESICLE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-46800" y="944640"/>
            <a:ext cx="59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  <a:ea typeface="Times New Roman"/>
              </a:rPr>
              <a:t>Also called the Golgi Complex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00" y="1752480"/>
            <a:ext cx="911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Comic Sans MS"/>
                <a:ea typeface="Times New Roman"/>
              </a:rPr>
              <a:t>It is made up of a stack of flattened out sacs …like a loose stack of pancak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0" name="golgi" descr=""/>
          <p:cNvPicPr/>
          <p:nvPr/>
        </p:nvPicPr>
        <p:blipFill>
          <a:blip r:embed="rId1"/>
          <a:stretch/>
        </p:blipFill>
        <p:spPr>
          <a:xfrm>
            <a:off x="7394400" y="228600"/>
            <a:ext cx="1749600" cy="158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0C26-FE8C-408D-95E4-3179F0CA345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2133720" y="228600"/>
            <a:ext cx="4876560" cy="12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GOLGI APPARAT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92" name="golgi1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5105520" cy="2819160"/>
          </a:xfrm>
          <a:prstGeom prst="rect">
            <a:avLst/>
          </a:prstGeom>
          <a:ln w="76320">
            <a:solidFill>
              <a:srgbClr val="66ff33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228600" y="5029200"/>
            <a:ext cx="9144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Think about building a model of a </a:t>
            </a:r>
            <a:r>
              <a:rPr b="0" lang="en-US" sz="30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ship</a:t>
            </a:r>
            <a:r>
              <a:rPr b="0" lang="en-US" sz="3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(that's the molecule). Then take that model and put it in a </a:t>
            </a:r>
            <a:r>
              <a:rPr b="0" lang="en-US" sz="30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bottle</a:t>
            </a:r>
            <a:r>
              <a:rPr b="0" lang="en-US" sz="3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(that's the vesicle)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9539-6427-4976-8E0D-82E8F2914CF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5639040" cy="56390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523880" y="2286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Golgi apparat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1C93-09A2-47F5-AECE-552C4DAB8B1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960" y="-228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LYSOSOMES </a:t>
            </a:r>
            <a:r>
              <a:rPr b="1" lang="en-US" sz="4400" spc="-1" strike="noStrike">
                <a:solidFill>
                  <a:srgbClr val="ccffff"/>
                </a:solidFill>
                <a:latin typeface="Comic Sans MS"/>
              </a:rPr>
              <a:t>(primarily animal)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800" y="1295280"/>
            <a:ext cx="876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33"/>
                </a:solidFill>
                <a:latin typeface="Comic Sans MS"/>
                <a:ea typeface="Times New Roman"/>
              </a:rPr>
              <a:t>They combine with the food taken in by the cel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228600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The enzymes in the lysosome bond to food &amp; digest it (acidic interior)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-360" y="3733920"/>
            <a:ext cx="8915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Next…smaller molecules are released which are absorbed by the mitochondria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D8F2-7665-40DE-9AB2-708C40AA469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LYSOSOM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When an organelle no longer works, the lysosome will attach itself to it and break it down like food (kind of like a cannibal)</a:t>
            </a:r>
            <a:r>
              <a:rPr b="0" lang="en-US" sz="30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Chemicals can then be reabsorbed or excreted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ysosomes can also destroy the cell if it breaks open accidentally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Suicide Sacs”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UV light damages lysosome membrane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The enzymes inside the lysosome spread throughout the cell and digest it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B350-DFAC-4BC7-A249-0BEBBA8EE30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LYSOSOM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03" name="lysosome1" descr=""/>
          <p:cNvPicPr/>
          <p:nvPr/>
        </p:nvPicPr>
        <p:blipFill>
          <a:blip r:embed="rId1"/>
          <a:stretch/>
        </p:blipFill>
        <p:spPr>
          <a:xfrm>
            <a:off x="3200400" y="4267080"/>
            <a:ext cx="2666880" cy="22100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78604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5" name="lysosome2" descr=""/>
          <p:cNvPicPr/>
          <p:nvPr/>
        </p:nvPicPr>
        <p:blipFill>
          <a:blip r:embed="rId2"/>
          <a:stretch/>
        </p:blipFill>
        <p:spPr>
          <a:xfrm>
            <a:off x="1600200" y="1600200"/>
            <a:ext cx="5638680" cy="220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5045-C5F4-40F2-84FB-DAA8D8BDF1D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1066680"/>
            <a:ext cx="373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33"/>
                </a:solidFill>
                <a:latin typeface="Comic Sans MS"/>
              </a:rPr>
              <a:t>CHROMOSOMES</a:t>
            </a:r>
            <a:r>
              <a:rPr b="0" lang="en-US" sz="3000" spc="-1" strike="noStrike">
                <a:solidFill>
                  <a:srgbClr val="ffffcc"/>
                </a:solidFill>
                <a:latin typeface="Comic Sans MS"/>
              </a:rPr>
              <a:t>-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2533680"/>
            <a:ext cx="3124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6600"/>
                </a:solidFill>
                <a:uFillTx/>
                <a:latin typeface="Comic Sans MS"/>
              </a:rPr>
              <a:t>Chromosomes</a:t>
            </a:r>
            <a:r>
              <a:rPr b="0" lang="en-US" sz="3000" spc="-1" strike="noStrike">
                <a:solidFill>
                  <a:srgbClr val="ffffcc"/>
                </a:solidFill>
                <a:latin typeface="Comic Sans MS"/>
              </a:rPr>
              <a:t> –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2117880"/>
            <a:ext cx="5486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ecff"/>
                </a:solidFill>
                <a:latin typeface="Comic Sans MS"/>
              </a:rPr>
              <a:t>carry the information that determines what traits a living thing will have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914400"/>
            <a:ext cx="3124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Comic Sans MS"/>
              </a:rPr>
              <a:t>are found inside the nucleu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76320"/>
            <a:ext cx="464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Comic Sans MS"/>
              </a:rPr>
              <a:t>Nucleu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8" name="nucleus" descr=""/>
          <p:cNvPicPr/>
          <p:nvPr/>
        </p:nvPicPr>
        <p:blipFill>
          <a:blip r:embed="rId1"/>
          <a:stretch/>
        </p:blipFill>
        <p:spPr>
          <a:xfrm>
            <a:off x="7394400" y="76320"/>
            <a:ext cx="1749600" cy="1771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flipV="1">
            <a:off x="6629400" y="914040"/>
            <a:ext cx="1066680" cy="609480"/>
          </a:xfrm>
          <a:prstGeom prst="line">
            <a:avLst/>
          </a:prstGeom>
          <a:ln cap="sq" w="76320">
            <a:solidFill>
              <a:srgbClr val="ff66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0" name="diagram01" descr=""/>
          <p:cNvPicPr/>
          <p:nvPr/>
        </p:nvPicPr>
        <p:blipFill>
          <a:blip r:embed="rId2"/>
          <a:stretch/>
        </p:blipFill>
        <p:spPr>
          <a:xfrm>
            <a:off x="762120" y="3962520"/>
            <a:ext cx="7696080" cy="2603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E14A-865C-4E60-A418-3CAE784809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3504960" cy="35053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819520" y="4906800"/>
            <a:ext cx="426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Lysosome Anim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410080" y="990720"/>
            <a:ext cx="335304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EB06-F227-405C-BEBC-1ADB1350055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Comic Sans MS"/>
              </a:rPr>
              <a:t>CYTOPLASM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240" y="685440"/>
            <a:ext cx="8915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ecff"/>
                </a:solidFill>
                <a:uFillTx/>
                <a:latin typeface="Comic Sans MS"/>
              </a:rPr>
              <a:t>Protoplasm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- everything inside the cell membra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ff33"/>
                </a:solidFill>
                <a:uFillTx/>
                <a:latin typeface="Comic Sans MS"/>
              </a:rPr>
              <a:t>Cytoplasm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- everything inside the cell membrane &amp; outside of the nucleus except the cell’s nucleu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Cytosol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ostly 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tains organel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tains salts, dissolved gasses &amp; nutri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CCCF-2759-48DB-8723-FE10E1DC7DE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01800" y="304920"/>
            <a:ext cx="7340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CYTOPLAS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12" name="animal%20cell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5181480" cy="51814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477120" y="227016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cytoplasm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5105520" y="2666880"/>
            <a:ext cx="1371600" cy="763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1BC5-EC3B-4570-B9EF-67A5A9DD052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Comic Sans MS"/>
              </a:rPr>
              <a:t>CYTOSKELET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ff33"/>
                </a:solidFill>
                <a:uFillTx/>
                <a:latin typeface="Comic Sans MS"/>
              </a:rPr>
              <a:t>Chief functions include: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buClr>
                <a:srgbClr val="cce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ecff"/>
                </a:solidFill>
                <a:latin typeface="Comic Sans MS"/>
              </a:rPr>
              <a:t>movement of material through the cell for stuff not diffusion or osmosis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buClr>
                <a:srgbClr val="cce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ecff"/>
                </a:solidFill>
                <a:latin typeface="Comic Sans MS"/>
              </a:rPr>
              <a:t>maintaining the shape of the cell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ccecff"/>
                </a:solidFill>
                <a:latin typeface="Comic Sans MS"/>
              </a:rPr>
              <a:t>keeping the cell from getting smashed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C0A9-34AD-4D1B-891D-424CE41AD3D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cytoskeleton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38480" y="914400"/>
            <a:ext cx="3589560" cy="2000160"/>
          </a:xfrm>
          <a:prstGeom prst="rect">
            <a:avLst/>
          </a:prstGeom>
          <a:ln w="0">
            <a:noFill/>
          </a:ln>
        </p:spPr>
      </p:pic>
      <p:pic>
        <p:nvPicPr>
          <p:cNvPr id="218" name="cytoskeleton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43400" y="3657600"/>
            <a:ext cx="3581280" cy="25909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 rot="5400000">
            <a:off x="-433800" y="3252600"/>
            <a:ext cx="5715000" cy="428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YTOSKELET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3826-AB1C-400A-8C70-7996575A236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VACUOL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Vacuoles are “bubbles” that float in the cell 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Vacuoles are more important to the survival of plant cells than they are to animal cell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AC59-CABD-4DDF-BDD9-D2AEE3868D4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VACUOLE: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Comic Sans MS"/>
                <a:ea typeface="Arial"/>
              </a:rPr>
              <a:t>STORAGE IN PLANT CELL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Vacuoles in plants support structure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Vacuoles hold onto things that the cell might need…like a backpack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There are some vacuoles that hold onto waste products, similar to having a big septic tank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Storing waste products protects the cell from contamination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FC16-D952-4FFF-8890-8F57DA16F41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VACUOLE CONT’D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So, when there is no water…the vacuole shrinks and the cell wall is the only thing holding the plant together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92D4-EF47-47BF-A50A-934228CF796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09480" y="3049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  <a:ea typeface="Times New Roman"/>
              </a:rPr>
              <a:t>You will know that a plant's vacuoles are shrinking when you see the plant begin to droop ove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7652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8" name="vacuole1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7239240" cy="36734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838080" y="205740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  <a:ea typeface="Arial"/>
              </a:rPr>
              <a:t>HOLDING UP THE WALL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1905120"/>
            <a:ext cx="7924680" cy="4724280"/>
          </a:xfrm>
          <a:prstGeom prst="rect">
            <a:avLst/>
          </a:prstGeom>
          <a:noFill/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EFDC-4106-48B5-AEB1-C4E6639C344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3855960"/>
            <a:ext cx="89154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Turgor Pressure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force exerted by the water entering (osmosis) the vacuole, which then swells exerting internal force on the cell wal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cc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Causes “rigidity” so the plant my increase by stacking cel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609480" y="-17640"/>
            <a:ext cx="7620120" cy="3827520"/>
            <a:chOff x="609480" y="-17640"/>
            <a:chExt cx="7620120" cy="3827520"/>
          </a:xfrm>
        </p:grpSpPr>
        <p:pic>
          <p:nvPicPr>
            <p:cNvPr id="233" name="vacuole1" descr=""/>
            <p:cNvPicPr/>
            <p:nvPr/>
          </p:nvPicPr>
          <p:blipFill>
            <a:blip r:embed="rId1"/>
            <a:stretch/>
          </p:blipFill>
          <p:spPr>
            <a:xfrm>
              <a:off x="685800" y="-17640"/>
              <a:ext cx="7543800" cy="382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09480" y="0"/>
              <a:ext cx="7620120" cy="3809880"/>
            </a:xfrm>
            <a:prstGeom prst="rect">
              <a:avLst/>
            </a:prstGeom>
            <a:noFill/>
            <a:ln w="7632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F23A-89F1-4978-83C7-C9833251736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763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DNA - Deoxyribonucleic acid</a:t>
            </a: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8077320" cy="544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ECF4-5CAD-4C2A-BA33-F7555FF611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rcRect l="20830" t="11115" r="15834" b="7787"/>
          <a:stretch/>
        </p:blipFill>
        <p:spPr>
          <a:xfrm>
            <a:off x="0" y="797040"/>
            <a:ext cx="9144000" cy="60609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0" y="-2520"/>
            <a:ext cx="9144000" cy="916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Chloroplas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219320" y="1295280"/>
            <a:ext cx="5181480" cy="4572000"/>
            <a:chOff x="1219320" y="1295280"/>
            <a:chExt cx="5181480" cy="4572000"/>
          </a:xfrm>
        </p:grpSpPr>
        <p:sp>
          <p:nvSpPr>
            <p:cNvPr id="238" name=""/>
            <p:cNvSpPr/>
            <p:nvPr/>
          </p:nvSpPr>
          <p:spPr>
            <a:xfrm>
              <a:off x="4343400" y="1905120"/>
              <a:ext cx="1752480" cy="914400"/>
            </a:xfrm>
            <a:prstGeom prst="ellipse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876920" y="4800600"/>
              <a:ext cx="1523880" cy="1066680"/>
            </a:xfrm>
            <a:prstGeom prst="ellipse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19320" y="2666880"/>
              <a:ext cx="1447560" cy="1067040"/>
            </a:xfrm>
            <a:prstGeom prst="ellipse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47920" y="1295280"/>
              <a:ext cx="2133360" cy="990720"/>
            </a:xfrm>
            <a:prstGeom prst="ellipse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52BB-FCCC-4602-9799-C56B5116AB9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76320" y="99072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e site of photosynthesis in eukaryotic cell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disk-like structures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mposed of a single membran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surrounding a fluid containing stacks of membranous disk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-2520"/>
            <a:ext cx="9144000" cy="916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Chloroplas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4" name="chloroplast" descr=""/>
          <p:cNvPicPr/>
          <p:nvPr/>
        </p:nvPicPr>
        <p:blipFill>
          <a:blip r:embed="rId1"/>
          <a:stretch/>
        </p:blipFill>
        <p:spPr>
          <a:xfrm>
            <a:off x="6850080" y="1676520"/>
            <a:ext cx="1760400" cy="238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0D2C-672B-4161-BE7F-ABA0F7F17E1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191120" y="1600200"/>
            <a:ext cx="4867200" cy="4800600"/>
          </a:xfrm>
          <a:prstGeom prst="rect">
            <a:avLst/>
          </a:prstGeom>
          <a:ln w="38160">
            <a:solidFill>
              <a:srgbClr val="ffffcc"/>
            </a:solidFill>
            <a:miter/>
          </a:ln>
        </p:spPr>
      </p:pic>
      <p:sp>
        <p:nvSpPr>
          <p:cNvPr id="246" name=""/>
          <p:cNvSpPr/>
          <p:nvPr/>
        </p:nvSpPr>
        <p:spPr>
          <a:xfrm>
            <a:off x="76320" y="0"/>
            <a:ext cx="40384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SOLAR energy radiated from the sun is captured by plants(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hloroplast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Then it is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instant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aneously changed into ELECTRICAL energy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Then packaged as CHEMICAL energy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029200" y="380880"/>
            <a:ext cx="3657600" cy="764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Chloroplas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B5EF-522F-49BF-9384-9A5B4324BED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124080" y="152280"/>
            <a:ext cx="2590920" cy="1129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Chloroplast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9" name="photosynthesis" descr=""/>
          <p:cNvPicPr/>
          <p:nvPr/>
        </p:nvPicPr>
        <p:blipFill>
          <a:blip r:embed="rId1"/>
          <a:stretch/>
        </p:blipFill>
        <p:spPr>
          <a:xfrm>
            <a:off x="1295280" y="3044880"/>
            <a:ext cx="6264360" cy="373680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sp>
        <p:nvSpPr>
          <p:cNvPr id="250" name=""/>
          <p:cNvSpPr/>
          <p:nvPr/>
        </p:nvSpPr>
        <p:spPr>
          <a:xfrm>
            <a:off x="0" y="8222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ff6600"/>
                </a:solidFill>
                <a:uFillTx/>
                <a:latin typeface="Comic Sans MS"/>
              </a:rPr>
              <a:t>photosynthesis</a:t>
            </a:r>
            <a:r>
              <a:rPr b="0" lang="en-US" sz="3000" spc="-1" strike="noStrike">
                <a:solidFill>
                  <a:srgbClr val="ff6600"/>
                </a:solidFill>
                <a:latin typeface="Comic Sans MS"/>
              </a:rPr>
              <a:t> takes place inside the chloroplast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320" y="1736640"/>
            <a:ext cx="3352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ff"/>
                </a:solidFill>
                <a:latin typeface="Comic Sans MS"/>
              </a:rPr>
              <a:t>Photosynthesis-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1447920"/>
            <a:ext cx="6629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the process in which plant use water, carbon dioxide, and energy form the sun to make food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0856-9ACA-4D6E-A8B8-B0276C99209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990720"/>
            <a:ext cx="9144000" cy="57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No energy transformation is 100% efficien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Not all the solar energy captured is converted to electrical and then chemical energy.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Some of it gets lost as heat or other forms of energy (light)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-2520"/>
            <a:ext cx="9144000" cy="916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Chloroplas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FD17-F917-4A97-96A9-004042E590D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533520"/>
            <a:ext cx="9144000" cy="64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generally appear in animal cell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they look like two cylinders at right angles to one anoth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when viewed with an electron microscope, the cylinders show up as nine bundles of tiny microtubules arranged in a circ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they help to form the fibers that move chromosomes around when the cell is divid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as animal cells prepare for cell division these two centrioles separate and go to opposite ends of the cell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99"/>
                </a:solidFill>
                <a:uFillTx/>
                <a:latin typeface="Comic Sans MS"/>
              </a:rPr>
              <a:t>Centrioles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9E57-419E-4258-B898-B6C3081C73A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2743200" cy="44197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rcRect l="8334" t="1368" r="5953" b="0"/>
          <a:stretch/>
        </p:blipFill>
        <p:spPr>
          <a:xfrm>
            <a:off x="3276720" y="2514600"/>
            <a:ext cx="5486400" cy="43434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3200400" y="609480"/>
            <a:ext cx="5486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Centrioles</a:t>
            </a:r>
            <a:endParaRPr b="1" lang="en-US" sz="4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7AB1-5439-43F9-BDB6-E173B19EB54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2280" y="673200"/>
            <a:ext cx="8991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small dot-like structures in cel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Comic Sans MS"/>
              </a:rPr>
              <a:t>they are often associated with forming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66ffff"/>
                </a:solidFill>
                <a:latin typeface="Comic Sans MS"/>
              </a:rPr>
              <a:t>rough 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Ribosomes are the site of protein synthesis in cel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Comic Sans MS"/>
              </a:rPr>
              <a:t>they are made in the nucleus of the cel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A ribosome can make the average protein in about one minu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-1800"/>
            <a:ext cx="914400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ibosom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71E6-B867-4D68-962A-A5F476F7A77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76320" y="792000"/>
            <a:ext cx="91440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Ribosomes are made up of proteins and ribonucleic acid(RN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These molecules are arranged into two subunits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These subunits are attached to each other and together form the entire ribosom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When viewed through a light microscope the ribosomes appear as do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-1800"/>
            <a:ext cx="914400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ibosome Structu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7146-1B48-4040-8902-1F9ECDB430E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52280" y="395280"/>
            <a:ext cx="876312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Types of Ribosom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There are two kinds of ribosom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1)  Attached to the rough 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2) floating in the cell cytoplas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Attached ribosomes make proteins that are used in the ER or transported within the ER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Free ribosomes make proteins that are used in the cytoplas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CEE9-834D-4943-8A3B-4AF4B0BF98F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8600" y="841320"/>
            <a:ext cx="87631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DNA carries the genetic information of a cell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Consists of thousands of gen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It specifies everything that is needed for the maintenance, function, and replication of the cel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It is made up of 4 different base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(A)  adenine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(C)  cytosin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(T)  thymine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(G)  guanin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062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DNA - Deoxyribonucleic acid</a:t>
            </a: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85DC-EEA7-4B91-B1D8-569BA34F2C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76320" y="0"/>
            <a:ext cx="90676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cap="sq"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Monotype Corsiva"/>
              </a:rPr>
              <a:t>Exercize your brain w/</a:t>
            </a:r>
            <a:endParaRPr b="1" lang="en-US" sz="6000" spc="1" strike="noStrike">
              <a:ln cap="sq"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838080" y="5334120"/>
            <a:ext cx="7772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cap="sq"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Monotype Corsiva"/>
              </a:rPr>
              <a:t>Homework Questions</a:t>
            </a:r>
            <a:endParaRPr b="1" lang="en-US" sz="6000" spc="1" strike="noStrike">
              <a:ln cap="sq"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267" name="marlajack" descr=""/>
          <p:cNvPicPr/>
          <p:nvPr/>
        </p:nvPicPr>
        <p:blipFill>
          <a:blip r:embed="rId1"/>
          <a:stretch/>
        </p:blipFill>
        <p:spPr>
          <a:xfrm>
            <a:off x="3657600" y="2590920"/>
            <a:ext cx="2217600" cy="251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AE1C-FB9F-4892-9EFA-A87DC63EAF1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905120" y="-763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Assignment Part A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(slides 1-11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4572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Comic Sans MS"/>
              </a:rPr>
              <a:t>Directions:  Write-out and highlight the following questions. Then use your notes to answer them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1676520"/>
            <a:ext cx="92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1.  Which organelle is known as the “Brain” of the cell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2376360"/>
            <a:ext cx="922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2.  If you look at a picture of a cell, how would you recognize the nucleolus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443400"/>
            <a:ext cx="92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3.  List the 3 main jobs of the cell membra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5132520"/>
            <a:ext cx="96775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5.  The term hydro means _________.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A. If something is hydrophobic it is _________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B. If something is hydrophilic it is __________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4038480"/>
            <a:ext cx="922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4. Explain why the cell membrane has tiny holes made of protein in it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sq" w="200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163F-5298-4226-A64F-1B0B7E6A474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905120" y="-763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Assignment Part B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(slides 11-23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8600" y="45720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Comic Sans MS"/>
              </a:rPr>
              <a:t>Directions:  Write-out and highlight the following questions. Then use your notes to answer them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6320" y="1447920"/>
            <a:ext cx="921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1.  Which organelle is known as the Power House” of the cell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6320" y="2362320"/>
            <a:ext cx="921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2.  The mitochondria of a cell share the same job as the __________ (hint- an organ) in the human body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6320" y="3429000"/>
            <a:ext cx="921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3.  Explain how you could distinguish the rough ER from the smooth ER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6320" y="4921200"/>
            <a:ext cx="929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5. What type of reactions occur on the inner membrane of the mitochondria?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produces energy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6320" y="4281480"/>
            <a:ext cx="921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4. What is the main job of the smooth ER?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cap="sq" w="200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6320" y="5943600"/>
            <a:ext cx="92199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6.  The process of H</a:t>
            </a:r>
            <a:r>
              <a:rPr b="0" lang="en-US" sz="3600" spc="-1" strike="noStrike" baseline="-25000">
                <a:solidFill>
                  <a:srgbClr val="66ff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O moving across the cell membrane is called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37F6-3636-40FE-A1E1-2E663835B6F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905120" y="-763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Assignment Part C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(slides 23-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" y="45720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Comic Sans MS"/>
              </a:rPr>
              <a:t>Directions:  Write-out and highlight the following questions. Then use your notes to answer them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6320" y="1447920"/>
            <a:ext cx="921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1. What is the main function of a lysosome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6320" y="2362320"/>
            <a:ext cx="921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2.  What happens if a lysosome breaks open?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6320" y="3429000"/>
            <a:ext cx="921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3. Explain the difference between cytoplasm and protoplasm. (draw a diagram if it will help you)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6320" y="4921200"/>
            <a:ext cx="92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5. Which organelle is the site of photosynthesis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6320" y="4281480"/>
            <a:ext cx="921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4.  Why are vacuoles important to PLANTS?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cap="sq" w="200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6320" y="5943600"/>
            <a:ext cx="921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6. What are the three main ingredients for photosynthesis?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DB1A-CE87-471E-98C2-95C34CA383A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905120" y="-763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Assignment Part D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(slides 23-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28600" y="45720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Comic Sans MS"/>
              </a:rPr>
              <a:t>Directions:  Write-out and highlight the following questions. Then use your notes to answer them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320" y="1447920"/>
            <a:ext cx="921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1. Centrioles are usually found in __________ cell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6320" y="2362320"/>
            <a:ext cx="921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2.  What is the main function of a centriole?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6320" y="3429000"/>
            <a:ext cx="921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3. List the two places you can find a ribosome in an animal cell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6320" y="4662360"/>
            <a:ext cx="921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4.  What do ribosomes make?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cap="sq" w="200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018F-9F4A-4DB3-82D2-4A08146D741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590920" y="266688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See also wksht to go with questions parts B-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4D5F-2DBE-474E-AFA9-34FB6EDFFFE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0" t="7592" r="0" b="0"/>
          <a:stretch/>
        </p:blipFill>
        <p:spPr>
          <a:xfrm>
            <a:off x="304920" y="1066680"/>
            <a:ext cx="8381880" cy="55659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33520" y="25884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NA -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eoxyribonucleic acid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B308-486E-4EAB-9BAB-6D58B0BCF2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80880" y="53352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Comic Sans MS"/>
              </a:rPr>
              <a:t>NUCLEOLU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2514600"/>
            <a:ext cx="4572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Comic Sans MS"/>
              </a:rPr>
              <a:t>The dark area in the nucleu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Comic Sans MS"/>
              </a:rPr>
              <a:t>Like a tiny nucleus inside the nucleus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9589" t="5062" r="7227" b="5062"/>
          <a:stretch/>
        </p:blipFill>
        <p:spPr>
          <a:xfrm>
            <a:off x="5332320" y="736560"/>
            <a:ext cx="3430800" cy="3530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4038480" y="914400"/>
            <a:ext cx="281952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E380-D5A6-4ACC-9DE6-87C69668AE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2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CELL MEMBRAN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06668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holds the cell togeth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keeps all of the pieces (like the organelles and the cytoplasm) inside the cel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controls what goes in and out of the cel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48006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Example:</a:t>
            </a: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like a big plastic bag  with tiny holes in i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23BE-6FED-4220-9C50-D85C7BB603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5800" y="5335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ecff"/>
                </a:solidFill>
                <a:uFillTx/>
                <a:latin typeface="Comic Sans MS"/>
              </a:rPr>
              <a:t>How does the cell membrane work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320" y="161784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Has 2 layers of MOLECULES = BILAY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Bi means tw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The layers are made up of molecules called              </a:t>
            </a:r>
            <a:r>
              <a:rPr b="1" lang="en-US" sz="3200" spc="-1" strike="noStrike" u="sng">
                <a:solidFill>
                  <a:srgbClr val="66ff33"/>
                </a:solidFill>
                <a:uFillTx/>
                <a:latin typeface="Comic Sans MS"/>
              </a:rPr>
              <a:t>phospholipid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**THINK OF a sandwich with two pieces of bread and some stuffing on the inside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5E45-7638-4AC4-BF0B-B56027E32F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2T02:19:43Z</dcterms:created>
  <dc:creator>Laurie Messina</dc:creator>
  <dc:description/>
  <dc:language>en-US</dc:language>
  <cp:lastModifiedBy>Valued Sony Customer</cp:lastModifiedBy>
  <dcterms:modified xsi:type="dcterms:W3CDTF">2004-10-26T13:29:32Z</dcterms:modified>
  <cp:revision>156</cp:revision>
  <dc:subject/>
  <dc:title>Slide 1</dc:title>
</cp:coreProperties>
</file>